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BFC7-501B-4AE9-9F2F-77162519A57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4F33-E0A8-4362-87BB-D3D0C34ACED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υποτροπή (backsliding) νοείται η ολική ή -κυρίως- εν μέρει επιστροφή στον απολυταρχισμό ύστερα από δημοκρατική ανάπαυλα.</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9779-9BAA-4B47-961D-626C9672C20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ημοκρατία έχει εδραιωθεί (consolidated) εφόσον εξασφαλίζει αποδεκτό πλαίσιο πολιτικού ανταγωνισμού. Ο Huntington (1991, σ. 266) εισηγείται ως κριτήριο τις δύο μεταβιβάσεις εξουσίας: με άλλα λόγια, η δημοκρατία έχει εδραιωθεί εφόσον και οι δύο κύριοι ανταγωνιστές έχουν παραδώσει ο ένας την εξουσία στον άλλον μέσω εκλογών. Πιο χρήσιμος έχει αποδειχθεί ο ευρύτερος ορισμός του Przeworski (1991, σ. 26): «Η δημοκρατία έχει εδραιωθεί εφόσον υπό δεδομένες πολιτικές και οικονομικές συνθήκες κυριαρχήσει απόλυτα ένα συγκεκριμένο σύστημα θεσμών και όταν ουδείς μπορεί να διανοηθεί ότι έχει τη δυνατότητα να λειτουργήσει εκτός αυτών των δημοκρατικών θεσμών».</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38A4-3256-482F-A6EC-A3B15F2392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Ζούμε στην εποχή της δημοκρατίας. Για πρώτη φορά στην ιστορία, οι περισσότεροι άνθρωποι διαβιούν κάτω από υποφερτά δημοκρατικά καθεστώτα. Αυτό το γεγονός</a:t>
            </a:r>
            <a:r>
              <a:rPr b="0" lang="en-US" sz="1200" spc="-1" strike="noStrike">
                <a:solidFill>
                  <a:srgbClr val="000000"/>
                </a:solidFill>
                <a:latin typeface="Arial"/>
              </a:rPr>
              <a:t> </a:t>
            </a:r>
            <a:r>
              <a:rPr b="0" lang="el-GR" sz="1200" spc="-1" strike="noStrike">
                <a:solidFill>
                  <a:srgbClr val="000000"/>
                </a:solidFill>
                <a:latin typeface="Arial"/>
              </a:rPr>
              <a:t>αντανακλά τη δραματική μεταμόρφωση του παγκόσμιου πολιτικού τοπίου κατά την τελευταία εικοσιπενταετία του 20ού αιώνα. Μέσα σε αυτό το σύντομο χρονικό διάστημα, ο</a:t>
            </a:r>
            <a:r>
              <a:rPr b="0" lang="en-US" sz="1200" spc="-1" strike="noStrike">
                <a:solidFill>
                  <a:srgbClr val="000000"/>
                </a:solidFill>
                <a:latin typeface="Arial"/>
              </a:rPr>
              <a:t> </a:t>
            </a:r>
            <a:r>
              <a:rPr b="0" lang="el-GR" sz="1200" spc="-1" strike="noStrike">
                <a:solidFill>
                  <a:srgbClr val="000000"/>
                </a:solidFill>
                <a:latin typeface="Arial"/>
              </a:rPr>
              <a:t>αριθμός των δημοκρατιών υπερδιπλασιάστηκε - από λιγότερες από 40 σε περισσότερες από 8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BC44-EBA4-43F7-9215-E349C421411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άμεση δημοκρατία οι πολίτες συναθροίζονται αυτοπροσώπως για να διαβουλευτούν και να λάβουν αποφάσεις επί συλλογικών ζητημάτ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βουλευτική δημοκρατία αποτελεί οπτική της δημοκρατίας που δίνει έμφαση στην αξία του δημόσιου διαλόγου, όπου συμμετέχουν ελεύθεροι, ίσοι και ορθολογικοί πολίτες, στη νομιμοποίηση και ποιοτική αναβάθμιση των αποφάσε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αντιπροσωπευτική δημοκρατία οι πολίτες εκλέγουν κοινοβούλιο και, στα προεδρικά συστήματα, τον επικεφαλής της εκτελεστικής εξουσίας. Οι αντιπρόσωποι συνήθως λογοδοτούν κατά την επόμενη εκλογική αναμέτρηση.</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ιλελεύθερη δημοκρατία αποτελεί εκδοχή της αντιπροσωπευτικής δημοκρατίας όπου το πεδίο δράσης της δημοκρατίας περιορίζεται από τη συνταγματική κατοχύρωση των ατομικών δικαιωμάτων, στα οποία περιλαμβάνεται η ελευθερία της συλλογικής διαβούλευσης, το δικαίωμα της ατομικής ιδιοκτησίας, η ανεξιθρησκία και η ελευθερία του λόγου. Ελεύθερες, δίκαιες και τακτικές εκλογές, και σχεδόν καθολικό δικαίωμα ψήφου.</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ελεύθερη δημοκρατία αποτελεί εκδοχή της αντιπροσωπευτικής δημοκρατίας όπου οι κυβερνώντες, μετά την εκλογή τους, ασκούν την εξουσία με ελάχιστους περιορισμούς και μικρό σεβασμό προς τα ατομικά δικαιώματα. Για να εξασφαλίσει την επανεκλογή του, ο πρόεδρος φροντίζει προ των εκλογών να έχει ευνοϊκή κάλυψη από τα μέσα ενημέρωσης, ενώ συχνά θέτει εμπόδια στους πολιτικούς του αντιπάλους, με αποτέλεσμα να μην υπάρχει λόγος να προβεί σε απροκάλυπτη εκλογική νοθεία.</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830-A99C-4C7A-8837-1869F0430D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πιτευχθεί ομοφωνία, όλοι πρέπει να συμφωνήσουν, να συναινέσουν ή τουλάχιστον να συγκατατεθού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νοια της ταυτόχρονης πλειοψηφίας προϋποθέτει περισσότερες από μία πλειοψηφίες: για παράδειγμα, σε ένα ομοσπονδιακό σύστημα μπορεί να απαιτείται πλειοψηφία τόσο μεταξύ των εκλογέων όσο και μεταξύ των πολιτει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ειδική πλειοψηφία υπερβαίνει την απλή πλειοψηφία: κατά κανόνα αφορά την πλειοψηφία δύο τρίτ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θμισμένη είναι η πλειοψηφία στην οποία έχουν ληφθεί υπόψη οι διαφορές στο ειδικό βάρος κάθε ψήφου: για παράδειγμα, οι μέτοχοι μιας εταιρείας μπορεί να έχουν μία ψήφο ανά μετοχή.</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λυτη είναι η πλειοψηφία άνω του 50% όσων έχουν δικαίωμα ψήφ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λή είναι η πλειοψηφία άνω του 50% όσων ψήφισα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χετική πλειοψηφία επικρατεί ο μεγαλύτερος αριθμός ψήφων, ακόμη κι αν δεν συγκροτεί πλειοψηφία.</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B36B-960A-4D29-A3B2-3712297B93E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ιπρόσωπος (representative) παίρνει τη θέση ενός άλλου προσώπου, ομάδας ή οντότητας. Μια σημαία αντιπροσωπεύει ένα έθνος, ένας δικηγόρος αντιπροσωπεύει έναν πελάτη, ενώ οι αιρετοί πολιτικοί αντιπροσωπεύουν τους ψηφοφόρους, τις εκλογικές τους περιφέρειες και τα πολιτικά τους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69C-C4C1-4654-B953-00D4C0DE55A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αντιπροσωπευτική μορφή της, έτσι και η φιλελεύθερη δημοκρατία (liberal democracy) είναι ένας συμβιβασμός. Συγκεκριμένα, επιδιώκει να συνδυάσει την εξουσία των δημοκρατικών κυβερνήσεων με το στοιχείο της επιβολής περιορισμών στο πεδίο δράσης τους. Στόχος είναι η εξασφάλιση της ατομικής ελευθερίας, στην οποία εντάσσεται και η ελευθερία από τις αυθαίρετες πράξεις της ίδιας τη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κατάρρευση των κομμουνιστικών και στρατιωτικών καθεστώτων κατά τις τελευταίες δεκαετίες του 20ού αιώνα, η ανελεύθερη δημοκρατία (illiberal democracy) (ονομάζεται επίσης εκλογική δημοκρατία ή ημι-δημοκρατία) έγινε η πιο διαδεδομένη και αναγνωρίσιμη μορφή διακυβέρνησης. Σε αυτού του τύπου το καθεστώς, ο εκλεγμένος ηγέτης (ή ηγέτες) ενδιαφέρεται ελάχιστα για τα ατομικά δικαιώματα, τουλάχιστον όταν αφορούν τους πολιτικούς του αντιπάλους. Η απροκάλυπτη εκλογική νοθεία αποφεύγεται, ωστόσο το περιεχόμενο της δημοκρατίας εξαντλείται στις ίδιες τις εκλογές.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EAAC-7963-4DC5-88AE-96B0657C87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ύμα (wave) εκδημοκρατισμού είναι η μετάβαση ενός συνόλου από αντιδημοκρατικά καθεστώτα στη δημοκρατία. Η μετάβαση αυτή πρέπει να λαμβάνει χώρα μέσα σε ορισμένο χρόνο και να υπερβαίνει αριθμητικά σε σημαντικό βαθμό τις κινήσεις προς την αντίθετη κατεύθυνση κατά την ίδια περίο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EFD9-DFC3-4A5C-965F-8831755B48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ώτες σύγχρονες αντιπροσωπευτικές δημοκρατίες αναδείχθηκαν κατά το πρώτο μακροχρόνιο κύμα εκδημοκρατισμού που έλαβε χώρα την περίοδο 1828-1926. Κατά τη διάρκεια αυτού του πρώτου κύματος σχεδόν 30 χώρες εγκαθίδρυσαν, έστω και σε ελάχιστο βαθμό, δημοκρατικούς εθνικούς θεσμού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κύμα εκδημοκρατισμού ξεκίνησε κατά τον Δεύτερο Παγκόσμιο Πόλεμο και συνεχίστηκε μέχρι τη δεκαετία του '60. Όπως συνέβη και με το πρώτο κύμα, ορισμένες από τις δημοκρατίες που δημιουργήθηκαν εκείνη την εποχή δεν κατάφεραν να εδραιωθούν. Οι εκλεγμένοι ηγέτες σε πολλές χώρες της Λατινικής Αμερικής, για παράδειγμα, ανατράπηκαν πολύ γρήγορα από στρατιωτικά πραξικοπήμα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κύμα εκδημοκρατισμού ήταν προϊόν του τελευταίου τέταρτου του 20ού αιώνα - παραμένει ζωντανό στη μνήμη των περισσότερων ανθρώπων που ζουν σήμερα. Τα κύρια, και σε μεγάλο βαθμό ετερογενή, συστατικά του στοιχεία είναι: α) το τέλος των δεξιών δικτατοριών στη Νότια Ευρώπη (Ελλάδα, Πορτογαλία και Ισπανία) τη δεκαετία του '70, β) η οπισθοχώρηση των στρατηγών στο μεγαλύτερο μέρος της Λατινικής Αμερικής τη δεκαετία του '80 και γ) η κατάρρευση του κομμουνισμού στη Σοβιετική Ένωση και την Ανατολική Ευρώπη στα τέλη της δεκαετίας του '8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8AD40-66D9-4A51-8EAA-89E50BBC3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F82A-E79C-4712-AE1C-BDC86BE3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92D40-EFCE-47F1-86A8-0C5863441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B7199-CB09-467E-8F43-00D838D7E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DBA7C-DBEF-4F40-B2D2-6DB12137E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BFF0F-B0F4-40C9-9ED5-6AE57688B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465D9-3F06-4004-B1E8-54833EB2D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0E9D8-F47A-44FD-BA25-F88ECAD66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E72C-8894-4BA3-983A-467757B24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92AE8-78D8-4DCC-B1A3-AF3E6BE2A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5303A-4BE6-4FED-9B70-20442345B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AA92B-6DDA-48CB-AF3D-20DE9FED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8A88-39C6-4B58-9FE7-FE44F0D39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8E01-2418-483C-9707-34430D066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827A3-B3DB-4B03-9F33-C26DC2AC5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54AFF-BD2A-4C80-BE29-68CA38B0E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F2F52-BF39-43E7-AD61-C1DE6DE31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AE9C-4F5C-40BF-9648-36F7619B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40AC-E1CA-4778-82EB-E99FF331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150A-1577-4643-B553-F69B3F60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BD5D-F6BB-4CC4-B41A-A037B5D5D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0B2A-17AC-4FD8-AB96-DB0E66327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0C6E-4A9C-4300-B7C0-EAF4FB72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D7E4-9D88-40B5-98DB-14BFD55BA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1D69-C862-46DF-A711-49C31DED7C3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CE7E-EE2F-4923-9C22-337EDF7F40E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5</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οκρατ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υποτροπή (backsliding) νοείται η ολική ή -κυρίως- εν μέρει επιστροφή στον απολυταρχισμό ύστερα από δημοκρατική ανάπαυλ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Μια δημοκρατία έχει εδραιωθεί (consolidated) εφόσον εξασφαλίζει αποδεκτό πλαίσιο πολιτικού ανταγωνισμ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5.1: Αριθμός των δημοκρατιών διεθνώς, 1946-2008</a:t>
            </a:r>
            <a:endParaRPr b="0" lang="en-US" sz="2000" spc="-1" strike="noStrike">
              <a:solidFill>
                <a:srgbClr val="000000"/>
              </a:solidFill>
              <a:latin typeface="Arial"/>
            </a:endParaRPr>
          </a:p>
        </p:txBody>
      </p:sp>
      <p:sp>
        <p:nvSpPr>
          <p:cNvPr id="107" name="PlaceHolder 2"/>
          <p:cNvSpPr>
            <a:spLocks noGrp="1"/>
          </p:cNvSpPr>
          <p:nvPr>
            <p:ph type="title"/>
          </p:nvPr>
        </p:nvSpPr>
        <p:spPr>
          <a:xfrm>
            <a:off x="8380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pic>
        <p:nvPicPr>
          <p:cNvPr id="108" name="Picture 4" descr="C:\Users\EPIMELEIA\Dropbox\Kritiki-Book-Proofing\14-sigritiki-politiki-hague\images\Hag_Fig_05_01.png"/>
          <p:cNvPicPr/>
          <p:nvPr/>
        </p:nvPicPr>
        <p:blipFill>
          <a:blip r:embed="rId1"/>
          <a:srcRect l="0" t="-2613" r="0" b="0"/>
          <a:stretch/>
        </p:blipFill>
        <p:spPr>
          <a:xfrm>
            <a:off x="1574640" y="2362320"/>
            <a:ext cx="6274080" cy="295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ύποι δημοκρατίας</a:t>
            </a:r>
            <a:endParaRPr b="0" lang="en-US" sz="4200" spc="-1" strike="noStrike">
              <a:solidFill>
                <a:srgbClr val="66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η δημ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ουλευτική δημοκρατί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προσωπευτική (έμμεση) δημ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η δημοκρατί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ελεύθερη δημοκρατ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μεση δημοκρατία</a:t>
            </a:r>
            <a:endParaRPr b="0" lang="en-US" sz="4200" spc="-1" strike="noStrike">
              <a:solidFill>
                <a:srgbClr val="660033"/>
              </a:solidFill>
              <a:latin typeface="Times New Roman"/>
            </a:endParaRPr>
          </a:p>
        </p:txBody>
      </p:sp>
      <p:sp>
        <p:nvSpPr>
          <p:cNvPr id="112"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5.2: Η άμεση δημοκρατία της αρχαίας Αθήνας</a:t>
            </a:r>
            <a:endParaRPr b="0" lang="en-US" sz="2000" spc="-1" strike="noStrike">
              <a:solidFill>
                <a:srgbClr val="000000"/>
              </a:solidFill>
              <a:latin typeface="Arial"/>
            </a:endParaRPr>
          </a:p>
        </p:txBody>
      </p:sp>
      <p:pic>
        <p:nvPicPr>
          <p:cNvPr id="113" name="Picture 4" descr="C:\Users\EPIMELEIA\Dropbox\Kritiki-Book-Proofing\14-sigritiki-politiki-hague\images\Hag_Fig_05_02.png"/>
          <p:cNvPicPr/>
          <p:nvPr/>
        </p:nvPicPr>
        <p:blipFill>
          <a:blip r:embed="rId1"/>
          <a:stretch/>
        </p:blipFill>
        <p:spPr>
          <a:xfrm>
            <a:off x="1295280" y="2209680"/>
            <a:ext cx="6755040" cy="338472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υλευτική δημοκρατία</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αθμίσεις της δημοκρατ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μοφωνία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υτόχρον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ιδική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αθμισμέν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όλυτ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ία (απλή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τική πλειοψηφία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τιπροσωπευτική δημοκρατί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αντιπρόσωπος (representative) παίρνει τη θέση ενός άλλου προσώπου, ομάδας ή οντότητας. Μια σημαία αντιπροσωπεύει ένα έθνος, ένας δικηγόρος αντιπροσωπεύει έναν πελάτη, ενώ οι αιρετοί πολιτικοί αντιπροσωπεύουν τους ψηφοφόρους, τις εκλογικές τους περιφέρειες και τα πολιτικά τους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Φιλελεύθερη και ανελεύθερη δημοκρατία</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η δημοκρατία</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ιδιώκει να συνδυάσει την εξουσία των δημοκρατικών κυβερνήσεων με το στοιχείο της επιβολής περιορισμών στο πεδίο δράσης τους. </a:t>
            </a:r>
            <a:endParaRPr b="0" lang="en-US" sz="26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ελεύθερη δημοκρατία</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εκλεγμένος ηγέτης (ή ηγέτες) ενδιαφέρεται ελάχιστα για τα ατομικά δικαιώματα. Η απροκάλυπτη εκλογική νοθεία αποφεύγεται, ωστόσο το περιεχόμενο της δημοκρατίας εξαντλείται στις ίδιες τις εκλογές.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ύμα (wave) εκδημοκρατισμού είναι η μετάβαση ενός συνόλου από αντιδημοκρατικά καθεστώτα στη δημοκρατία. Η μετάβαση αυτή πρέπει να λαμβάνει χώρα μέσα σε ορισμένο χρόνο και να υπερβαίνει αριθμητικά σε σημαντικό βαθμό τις κινήσεις προς την αντίθετη κατεύθυνση κατά την ίδια περίοδο.</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untington, 19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 </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828-1926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Βρετανία, Γαλλία, ΗΠΑ </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2</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43-62</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νδία, Ισραήλ, Ιαπωνία, Δυτική Γερμανία</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74-91</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Νοτιοανατολική Ευρώπη, Λατινική Αμερική, τμήματα της Αφρικής </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06:15:38Z</dcterms:created>
  <dc:creator>pc</dc:creator>
  <dc:description/>
  <dc:language>en-US</dc:language>
  <cp:lastModifiedBy>EPIMELEIA</cp:lastModifiedBy>
  <dcterms:modified xsi:type="dcterms:W3CDTF">2013-09-23T08:45:5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